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C3523-78A9-4081-B37B-F91AF0432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33484-0E17-487D-880C-602E4D034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77E15-C0B6-471F-822C-A921D6CF0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5114E-9719-4CE5-A038-D515F1AFB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FB7DF-F5E0-4DEE-AFC3-F86EADF9B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94664-C22C-4934-98C2-A733B7FB1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EAA3D-78FF-4A15-93EA-6C2E800CE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B6F39-02B0-4949-9EAD-14C6A73A2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8742D-21DA-468F-B6C7-6B1F7205C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6250E-869A-44E1-8873-D6C0C52BA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74A4C-05D3-4A56-A8C6-3F6ED03BF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CBA88-D61D-40C7-BDFB-604380241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BE9DD-40BE-4EB8-966C-D1A5F8B852B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11:49:47Z</dcterms:created>
  <dc:creator/>
  <dc:description/>
  <dc:language>en-US</dc:language>
  <cp:lastModifiedBy>Alexey Zhilin</cp:lastModifiedBy>
  <dcterms:modified xsi:type="dcterms:W3CDTF">2009-01-26T12:06:22Z</dcterms:modified>
  <cp:revision>7</cp:revision>
  <dc:subject/>
  <dc:title>Slide 1</dc:title>
</cp:coreProperties>
</file>