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138AE-CFF8-44DE-AE67-E56AD675E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12506-5A0F-4D2E-B971-5335BAE73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AF945-1FB5-45B3-8139-8D26E66DE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E4B30-550C-4649-B18A-C39BFD62F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22D8B-7614-41B6-9846-3B31FDF93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58F5B-C1B6-46E8-B346-6AE081609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50963-C0B6-413C-90A6-18B5D8CFC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59A5A-6794-4790-B3E8-6242546C7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DCEF6-7633-435F-AA5B-51CC6A5D1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AB652-29E2-4970-BDD2-EE269E9FA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F5D3E-EAD0-4894-B8EB-AF487D70B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A60D4-A9A9-4591-94C9-C9B8DA0DC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73EC9-8C20-449C-937C-A9EF8A08289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11:49:47Z</dcterms:created>
  <dc:creator/>
  <dc:description/>
  <dc:language>en-US</dc:language>
  <cp:lastModifiedBy>Alexey Zhilin</cp:lastModifiedBy>
  <dcterms:modified xsi:type="dcterms:W3CDTF">2009-01-26T12:06:22Z</dcterms:modified>
  <cp:revision>7</cp:revision>
  <dc:subject/>
  <dc:title>Slide 1</dc:title>
</cp:coreProperties>
</file>